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88406-7123-4950-8A32-B7A14A5E6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F690D-C5A6-4CD2-9C2F-30F4DF4A2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6ECEC-7EBE-496E-B1E0-BD968ACBF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3406D-2A52-46A9-9AD8-3A4035910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9B0BC-24FC-4170-A4E4-4A281E8A3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04E88-3058-4B77-86D0-FE2F01C90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6920B-AAA7-4603-AAD2-C664D38E6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C431D-E943-4C76-B5FC-377EA8F31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48EDC-2992-4B00-AB53-987B900CB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D4F7E-CEEE-41EB-8E90-438AE0D62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A9745-D622-49AF-A6EE-79FFF6470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E46A6-2C45-4A96-84E4-C312F899F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8D0D-3720-4AC9-B650-ACC22A291B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vfUNnJfdwpw&amp;feature=related"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152280" y="1828800"/>
          <a:ext cx="8839440" cy="4630680"/>
        </p:xfrm>
        <a:graphic>
          <a:graphicData uri="http://schemas.openxmlformats.org/drawingml/2006/table">
            <a:tbl>
              <a:tblPr/>
              <a:tblGrid>
                <a:gridCol w="762120"/>
                <a:gridCol w="6781680"/>
                <a:gridCol w="1295640"/>
              </a:tblGrid>
              <a:tr h="426960">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lan – Teaching and Learning Activiti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ources Required:</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7200">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 min</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Introduction </a:t>
                      </a:r>
                      <a:endParaRPr b="0" lang="en-US" sz="1100" spc="-1" strike="noStrike">
                        <a:solidFill>
                          <a:srgbClr val="000000"/>
                        </a:solidFill>
                        <a:latin typeface="Arial"/>
                      </a:endParaRPr>
                    </a:p>
                    <a:p>
                      <a:pPr marL="533520" indent="-533520">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sic Video:  Into Temptation (Crowded House) will introduce today’s topic. </a:t>
                      </a:r>
                      <a:r>
                        <a:rPr b="0" lang="en-US" sz="1100" spc="-1" strike="noStrike" u="sng">
                          <a:solidFill>
                            <a:srgbClr val="009999"/>
                          </a:solidFill>
                          <a:uFillTx/>
                          <a:latin typeface="Arial"/>
                          <a:hlinkClick r:id="rId1"/>
                        </a:rPr>
                        <a:t>http://www.youtube.com/watch?v=vfUNnJfdwpw&amp;feature=related</a:t>
                      </a:r>
                      <a:endParaRPr b="0" lang="en-US" sz="1100" spc="-1" strike="noStrike">
                        <a:solidFill>
                          <a:srgbClr val="000000"/>
                        </a:solidFill>
                        <a:latin typeface="Arial"/>
                      </a:endParaRPr>
                    </a:p>
                    <a:p>
                      <a:pPr marL="533520" indent="-533520">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nk/Pair/Share – Have students think of times when they were tempted.   What do students identify as a guilty pleasure?  Is it impulsive?  What criteria qualifies a guilty pleasu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ptop </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CD Projector</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eaker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760">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 min</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lent Reading</a:t>
                      </a:r>
                      <a:endParaRPr b="0" lang="en-US" sz="1100" spc="-1" strike="noStrike">
                        <a:solidFill>
                          <a:srgbClr val="000000"/>
                        </a:solidFill>
                        <a:latin typeface="Arial"/>
                      </a:endParaRPr>
                    </a:p>
                    <a:p>
                      <a:pPr>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yth &amp; Meaning text pages 19-21.</a:t>
                      </a:r>
                      <a:endParaRPr b="0" lang="en-US" sz="1100" spc="-1" strike="noStrike">
                        <a:solidFill>
                          <a:srgbClr val="000000"/>
                        </a:solidFill>
                        <a:latin typeface="Arial"/>
                      </a:endParaRPr>
                    </a:p>
                    <a:p>
                      <a:pPr>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sis 3: 1-2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yth &amp; Meaning Text </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ible</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71760">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 min</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lass will be divided into groups and will be assigned the following challenge:</a:t>
                      </a: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oup One (3 people)  -  Choral Reading from Myth &amp; Meaning</a:t>
                      </a: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oup Two (3 people) – Choral Reading from Genesis</a:t>
                      </a: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oup Three (4 people)  – CBC Evening News (outside the Gates of the Garden of Eden)</a:t>
                      </a: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ter Mansbridge, Adam, Eve, Serpent</a:t>
                      </a: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oup Four – (6 people) – “The View” Interview “Man Falls Into Temptation”</a:t>
                      </a: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ree panelists, Adam, Prometheus, Zeus</a:t>
                      </a: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oup Five – (6 people) – “The View” Interview “Women at Fault”</a:t>
                      </a: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ree panelists, Zeus, Eve, Pandora</a:t>
                      </a: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student will receive a critical challenge describing their mission and group.</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itical Challenge Handout</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2" name="Text Box 38"/>
          <p:cNvSpPr/>
          <p:nvPr/>
        </p:nvSpPr>
        <p:spPr>
          <a:xfrm>
            <a:off x="0" y="0"/>
            <a:ext cx="9144000" cy="1584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thology:</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the role of Temptation in the Evolution of Humanity.</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Goals:</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tation is an evil force responsible for the downfall of humankind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rupt nature of humanity lends itself vulnerable to the evils of temptation.</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tinue to battle temptation on a daily basi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Box 1"/>
          <p:cNvSpPr/>
          <p:nvPr/>
        </p:nvSpPr>
        <p:spPr>
          <a:xfrm>
            <a:off x="152280" y="76320"/>
            <a:ext cx="883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emptation Challenge</a:t>
            </a:r>
            <a:endParaRPr b="0" lang="en-US" sz="2000" spc="-1" strike="noStrike">
              <a:solidFill>
                <a:srgbClr val="000000"/>
              </a:solidFill>
              <a:latin typeface="Arial"/>
            </a:endParaRPr>
          </a:p>
        </p:txBody>
      </p:sp>
      <p:pic>
        <p:nvPicPr>
          <p:cNvPr id="44" name="Picture 2" descr="http://www.healthhabits.ca/wp-content/uploads/2011/01/peter_mansbridge.jpg"/>
          <p:cNvPicPr/>
          <p:nvPr/>
        </p:nvPicPr>
        <p:blipFill>
          <a:blip r:embed="rId1"/>
          <a:stretch/>
        </p:blipFill>
        <p:spPr>
          <a:xfrm>
            <a:off x="380880" y="4203720"/>
            <a:ext cx="990720" cy="990720"/>
          </a:xfrm>
          <a:prstGeom prst="rect">
            <a:avLst/>
          </a:prstGeom>
          <a:ln w="0">
            <a:noFill/>
          </a:ln>
        </p:spPr>
      </p:pic>
      <p:sp>
        <p:nvSpPr>
          <p:cNvPr id="45" name="TextBox 3"/>
          <p:cNvSpPr/>
          <p:nvPr/>
        </p:nvSpPr>
        <p:spPr>
          <a:xfrm>
            <a:off x="117360" y="584280"/>
            <a:ext cx="861084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roup One – A Choral Reading: </a:t>
            </a:r>
            <a:r>
              <a:rPr b="1" lang="en-US" sz="1200" spc="-1" strike="noStrike">
                <a:solidFill>
                  <a:srgbClr val="000000"/>
                </a:solidFill>
                <a:latin typeface="Arial"/>
              </a:rPr>
              <a:t>  </a:t>
            </a:r>
            <a:r>
              <a:rPr b="0" lang="en-US" sz="1200" spc="-1" strike="noStrike">
                <a:solidFill>
                  <a:srgbClr val="000000"/>
                </a:solidFill>
                <a:latin typeface="Arial"/>
              </a:rPr>
              <a:t>Myth &amp; Meaning text pages 19-2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t members:  Ryan, Marina, Antho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hallenge:  Deliver a choral reading of the Pandora and Prometheus stories.  Your presentation should be entertaining, interesting, clear, and creative!  There may be lines where you read as a group, and other lines where there is a soloist.  Think about the text, its meaning and what you feel should be emphasized and explored.  Good lu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roup Two – A Choral Reading:</a:t>
            </a:r>
            <a:r>
              <a:rPr b="1" lang="en-US" sz="1200" spc="-1" strike="noStrike">
                <a:solidFill>
                  <a:srgbClr val="000000"/>
                </a:solidFill>
                <a:latin typeface="Arial"/>
              </a:rPr>
              <a:t>  </a:t>
            </a:r>
            <a:r>
              <a:rPr b="0" lang="en-US" sz="1200" spc="-1" strike="noStrike">
                <a:solidFill>
                  <a:srgbClr val="000000"/>
                </a:solidFill>
                <a:latin typeface="Arial"/>
              </a:rPr>
              <a:t>Genesis 3: 1-2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t members:  Jadelyn, Jason, Allis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hallenge:  Deliver a choral reading of the Garden of Eden story.  Your presentation should be entertaining, interesting, clear, and creative!  There may be lines where you read as a group, and other lines where there is a soloist.  Think about the text, its meaning and what you feel should be emphasized and explored.  Good lu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roup Three – CBC Evening News: </a:t>
            </a:r>
            <a:r>
              <a:rPr b="1" lang="en-US" sz="1200" spc="-1" strike="noStrike">
                <a:solidFill>
                  <a:srgbClr val="000000"/>
                </a:solidFill>
                <a:latin typeface="Arial"/>
              </a:rPr>
              <a:t> </a:t>
            </a:r>
            <a:r>
              <a:rPr b="0" lang="en-US" sz="1200" spc="-1" strike="noStrike">
                <a:solidFill>
                  <a:srgbClr val="000000"/>
                </a:solidFill>
                <a:latin typeface="Arial"/>
              </a:rPr>
              <a:t>Reporting from outside the Gates of The Garden of Ed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hallenge:  Imagine Adam and Eve have just been kicked out of the Garden of Eden for falling into temptation of the forbidden fruit tree.  Peter Mansbridge is reporting live from just outside the Gates of The Garden of Eden and covering live footage of the exchanges made between Adam, Eve and the Serpent.  In order to make this an authentic and believable production, you must make your characters credible in thought, words and action.  Please be creative and feel free to dress the part.  Good lu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 name="TextBox 4"/>
          <p:cNvSpPr/>
          <p:nvPr/>
        </p:nvSpPr>
        <p:spPr>
          <a:xfrm>
            <a:off x="1600200" y="4191120"/>
            <a:ext cx="62485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t members:  Fady, Paul, Sydney D, LJ</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Mansbrid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p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Box 1"/>
          <p:cNvSpPr/>
          <p:nvPr/>
        </p:nvSpPr>
        <p:spPr>
          <a:xfrm>
            <a:off x="152280" y="76320"/>
            <a:ext cx="883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emptation Challenge</a:t>
            </a:r>
            <a:endParaRPr b="0" lang="en-US" sz="2000" spc="-1" strike="noStrike">
              <a:solidFill>
                <a:srgbClr val="000000"/>
              </a:solidFill>
              <a:latin typeface="Arial"/>
            </a:endParaRPr>
          </a:p>
        </p:txBody>
      </p:sp>
      <p:sp>
        <p:nvSpPr>
          <p:cNvPr id="48" name="TextBox 3"/>
          <p:cNvSpPr/>
          <p:nvPr/>
        </p:nvSpPr>
        <p:spPr>
          <a:xfrm>
            <a:off x="0" y="685800"/>
            <a:ext cx="899172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roup Four – The View</a:t>
            </a:r>
            <a:r>
              <a:rPr b="1" lang="en-US" sz="1200" spc="-1" strike="noStrike">
                <a:solidFill>
                  <a:srgbClr val="000000"/>
                </a:solidFill>
                <a:latin typeface="Arial"/>
              </a:rPr>
              <a:t>   </a:t>
            </a:r>
            <a:r>
              <a:rPr b="0" lang="en-US" sz="1200" spc="-1" strike="noStrike">
                <a:solidFill>
                  <a:srgbClr val="000000"/>
                </a:solidFill>
                <a:latin typeface="Arial"/>
              </a:rPr>
              <a:t>Interview:  “Man Falls Into Temp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hallenge:  The View is doing an interview entitled “Man Falls Into Temptation.”  The producers have asked Adam, Prometheus and Zeus to appear on the show.  Develop a skit  that reflects your character’s personality, opinions on the topic, and experience with the topic.  The panelists should ask relevant questions and consider the audience need for information, clarity, and entertainment.  You are encouraged to dress the part and embrace your role.  Good Lu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roup Five – The View</a:t>
            </a:r>
            <a:r>
              <a:rPr b="1" lang="en-US" sz="1200" spc="-1" strike="noStrike">
                <a:solidFill>
                  <a:srgbClr val="000000"/>
                </a:solidFill>
                <a:latin typeface="Arial"/>
              </a:rPr>
              <a:t>   </a:t>
            </a:r>
            <a:r>
              <a:rPr b="0" lang="en-US" sz="1200" spc="-1" strike="noStrike">
                <a:solidFill>
                  <a:srgbClr val="000000"/>
                </a:solidFill>
                <a:latin typeface="Arial"/>
              </a:rPr>
              <a:t>Interview:</a:t>
            </a:r>
            <a:r>
              <a:rPr b="1" lang="en-US" sz="1200" spc="-1" strike="noStrike">
                <a:solidFill>
                  <a:srgbClr val="000000"/>
                </a:solidFill>
                <a:latin typeface="Arial"/>
              </a:rPr>
              <a:t> </a:t>
            </a:r>
            <a:r>
              <a:rPr b="0" lang="en-US" sz="1200" spc="-1" strike="noStrike">
                <a:solidFill>
                  <a:srgbClr val="000000"/>
                </a:solidFill>
                <a:latin typeface="Arial"/>
              </a:rPr>
              <a:t>“Women at Faul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hallenge:  The View is doing an interview entitled “Women at Fault.”  The producers have asked Eve, Pandora and Zeus to appear on the show.  Develop a skit  that reflects your character’s personality, opinions on the topic, and experience with the topic.  The panelists should ask relevant questions and consider the audience need for information, clarity, and entertainment.  You are encouraged to dress the part and embrace your role.  Good Lu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TextBox 5"/>
          <p:cNvSpPr/>
          <p:nvPr/>
        </p:nvSpPr>
        <p:spPr>
          <a:xfrm>
            <a:off x="2743200" y="1143000"/>
            <a:ext cx="6032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t members: Nick, Bobby, Robbie, Cheyanne, Chloe, Nic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ist 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ist Tw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ist Th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a:t>
            </a:r>
            <a:endParaRPr b="0" lang="en-US" sz="1200" spc="-1" strike="noStrike">
              <a:solidFill>
                <a:srgbClr val="000000"/>
              </a:solidFill>
              <a:latin typeface="Arial"/>
            </a:endParaRPr>
          </a:p>
        </p:txBody>
      </p:sp>
      <p:pic>
        <p:nvPicPr>
          <p:cNvPr id="50" name="Picture 2" descr=""/>
          <p:cNvPicPr/>
          <p:nvPr/>
        </p:nvPicPr>
        <p:blipFill>
          <a:blip r:embed="rId1"/>
          <a:stretch/>
        </p:blipFill>
        <p:spPr>
          <a:xfrm>
            <a:off x="533520" y="1230480"/>
            <a:ext cx="1828800" cy="1436400"/>
          </a:xfrm>
          <a:prstGeom prst="rect">
            <a:avLst/>
          </a:prstGeom>
          <a:ln w="0">
            <a:noFill/>
          </a:ln>
        </p:spPr>
      </p:pic>
      <p:sp>
        <p:nvSpPr>
          <p:cNvPr id="51" name="TextBox 7"/>
          <p:cNvSpPr/>
          <p:nvPr/>
        </p:nvSpPr>
        <p:spPr>
          <a:xfrm>
            <a:off x="2743200" y="4002120"/>
            <a:ext cx="6032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t members: Alex, Sidney M, Emma, Stephanie, Alexandria, Laic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ist 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ist Tw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ist Th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do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a:t>
            </a:r>
            <a:endParaRPr b="0" lang="en-US" sz="1200" spc="-1" strike="noStrike">
              <a:solidFill>
                <a:srgbClr val="000000"/>
              </a:solidFill>
              <a:latin typeface="Arial"/>
            </a:endParaRPr>
          </a:p>
        </p:txBody>
      </p:sp>
      <p:pic>
        <p:nvPicPr>
          <p:cNvPr id="52" name="Picture 3" descr=""/>
          <p:cNvPicPr/>
          <p:nvPr/>
        </p:nvPicPr>
        <p:blipFill>
          <a:blip r:embed="rId2"/>
          <a:stretch/>
        </p:blipFill>
        <p:spPr>
          <a:xfrm>
            <a:off x="117360" y="4114800"/>
            <a:ext cx="2549520" cy="11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03:09:35Z</dcterms:created>
  <dc:creator>Savario Galati</dc:creator>
  <dc:description/>
  <dc:language>en-US</dc:language>
  <cp:lastModifiedBy>Savario Galati</cp:lastModifiedBy>
  <dcterms:modified xsi:type="dcterms:W3CDTF">2011-04-12T01:20:27Z</dcterms:modified>
  <cp:revision>120</cp:revision>
  <dc:subject/>
  <dc:title>“My Last Duchess”</dc:title>
</cp:coreProperties>
</file>